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E7A-0398-497B-B784-C0DAE5C1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DE1-849A-4299-843E-E118E08D7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592-8738-4FD7-8C9B-6D9BDA8AE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A07A-F2A2-40F7-9680-074E17C89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5A4-BC8B-406E-997A-0AF2898F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AC6-48B2-4557-8CE2-4EF29D6D3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BBA-BDB1-4AA5-A9DA-7AA2825F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C75-DE4E-4886-A828-F106B6F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31D-DE51-4BF3-BF7E-DCD10608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C6B-DC16-4476-8D1C-694797DE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830-57EF-41CF-9776-E38EAD1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588B-7827-4C31-BB70-98B920E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852-8808-44A3-88EF-B3C28A91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1C6C-D579-47CB-9EAC-8B435C69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9B2C-19F9-4C43-B99D-CBFCBE9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ACA9-392F-49B3-8C7E-0B38B423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92FB-4C31-4975-B770-1CD1337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88-1559-4631-AA99-A5FD6B1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7F28-5C08-4E4E-A069-4295772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298-350B-43A0-B30B-D3ED035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236-E6CC-4695-AF78-9394B71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3452-6370-437F-935A-B71A55B4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8AA-EF4E-4245-8D93-CD4380A8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36A-BE44-4955-9F0D-29C144D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F96-85E5-4D0A-8E7B-3139FBF8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C6B-8466-4981-ABE9-A7FBAE2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88F-7725-4951-8A46-D4A53B0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EFD-B678-4DAB-8FF9-1EC64D6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7E6-0BBB-4BC7-B45B-420CDCD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483-BE6A-46BE-813E-6E66379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8165-F9AE-4733-AD83-CD7E1F0C4F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ED1-97FC-4086-A815-C7994BC97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5A0-7D0A-47F6-91B0-6B569A241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DF3-928E-439B-90F7-7BAEEC557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460520" y="2087640"/>
            <a:ext cx="77090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93" name=""/>
          <p:cNvGraphicFramePr/>
          <p:nvPr/>
        </p:nvGraphicFramePr>
        <p:xfrm>
          <a:off x="3355920" y="4037040"/>
          <a:ext cx="4064040" cy="2590920"/>
        </p:xfrm>
        <a:graphic>
          <a:graphicData uri="http://schemas.openxmlformats.org/drawingml/2006/table">
            <a:tbl>
              <a:tblPr/>
              <a:tblGrid>
                <a:gridCol w="4064040"/>
              </a:tblGrid>
              <a:tr h="121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 Dr. Imelda Balch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ltant Maternal Fetal Medic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ti Mal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Ranjit Singh Dhalliw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tetrician &amp; Gynaec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Amp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400" y="654120"/>
            <a:ext cx="119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 is seen again at 36/52 PO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ltrasound performed has revealed evidence of polyhydramnios and estimated fetal weight 3.1k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-27000" y="1946160"/>
          <a:ext cx="12192120" cy="1189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39672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H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1680" y="3459240"/>
          <a:ext cx="12160440" cy="188892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u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 mm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symptoms of impeding eclam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252B-A683-40EB-8A58-84535BF61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next plan of manag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between 37+0 and 38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at 40+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Repeat another scan after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dminister corticosteroids and repeat another scan after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4" name="Rounded Rectangle 3"/>
          <p:cNvSpPr/>
          <p:nvPr/>
        </p:nvSpPr>
        <p:spPr>
          <a:xfrm>
            <a:off x="165240" y="1851120"/>
            <a:ext cx="7191360" cy="645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612200" y="18813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EB0-E04B-42CF-A065-DC813FCC5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Patient wishes to know her mode of deliv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Delivery will be via an elective caesarean section to avoid shoulder dysto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For induction of labour between 37+0 and 38+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wait for spontaneous onset of lab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Mode of delivery should be individualised, taking into consideration the estimated fetal weight and obstetric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im for a vaginal delivery but no instr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0" name="Rounded Rectangle 3"/>
          <p:cNvSpPr/>
          <p:nvPr/>
        </p:nvSpPr>
        <p:spPr>
          <a:xfrm>
            <a:off x="165240" y="2641680"/>
            <a:ext cx="11407680" cy="647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8799480" y="489744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5"/>
          <p:cNvSpPr/>
          <p:nvPr/>
        </p:nvSpPr>
        <p:spPr>
          <a:xfrm>
            <a:off x="165240" y="3749760"/>
            <a:ext cx="11407680" cy="904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D65-2B88-4099-A770-43A0A2836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ophylaxis for pre-eclam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vention of neural tube de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isk assessment for complications of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MBG and achieving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Fetal growth monitoring can be used to facilitate manag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iming of delivery has to be individualised after discussion with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8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2DB-BCBC-4611-A2CA-51FF4865C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593-9DF7-43C2-996B-C67E6C473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4CA-4756-47DA-B681-351BD8D3C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37/ G3P2 @ 11/52 PO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he has pre-existing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bA1c is 5.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current glycaemic levels are satisfa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he had already switched from glicazide to metfor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MI is 32 kg/m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P is 130/80 mmHg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9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783-3EA3-4377-8D61-F2373E54B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next step in her manag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vit. C &amp; E sup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low dose aspirin from 12/52  till deli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retinal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n ultrasound scan for dating of pregnan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heck urine for presence of proteinu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3" name="Rounded Rectangle 3"/>
          <p:cNvSpPr/>
          <p:nvPr/>
        </p:nvSpPr>
        <p:spPr>
          <a:xfrm>
            <a:off x="165240" y="2401920"/>
            <a:ext cx="11326680" cy="241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195800" y="50259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AB5-7044-499E-B0CB-DF6995B7A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advice will you give her to reduce complications in her pregnanc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Limit total weight gain pregnancy to between 5 - 9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ncourage exercise in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ncourage BSP to be done once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Maintain blood glucose targets; fasting &lt;5.1mmol /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ntinue folic acid at 5 mg per day till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9" name="Rounded Rectangle 3"/>
          <p:cNvSpPr/>
          <p:nvPr/>
        </p:nvSpPr>
        <p:spPr>
          <a:xfrm>
            <a:off x="165240" y="2306520"/>
            <a:ext cx="1120284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068800" y="172260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nsw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DF23-13E6-4D17-BD6F-4879A70E1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695160"/>
            <a:ext cx="1216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then referred to a tertiary centre at 16/5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455840"/>
          <a:ext cx="1219212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4575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prandial 2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3548160"/>
          <a:ext cx="12160080" cy="13716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 u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736-92A1-49E9-9D3E-283B2365B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will you explain to 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itiate insulin as in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reatment of hyperglycemia will reduce the risk of pre-eclampsia by 38%, macrosomia by 50% and shoulder dystocia by 58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ment for a detailed structured anatomy scan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6-18/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Referral to nephrolog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thrombo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0" name="Rounded Rectangle 3"/>
          <p:cNvSpPr/>
          <p:nvPr/>
        </p:nvSpPr>
        <p:spPr>
          <a:xfrm>
            <a:off x="165240" y="2484360"/>
            <a:ext cx="11202840" cy="152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716960" y="15573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5"/>
          <p:cNvSpPr/>
          <p:nvPr/>
        </p:nvSpPr>
        <p:spPr>
          <a:xfrm>
            <a:off x="233280" y="5106960"/>
            <a:ext cx="11203200" cy="1454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855-5818-45A1-B799-1C888EB67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733320"/>
            <a:ext cx="12192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 is on regular follow up and is seen again at 28/5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nical examination has revealed a symphyseal fundal height of 34 c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-27000" y="1441440"/>
          <a:ext cx="12192120" cy="1189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39672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prandial 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1680" y="2954160"/>
          <a:ext cx="12160440" cy="158436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u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 mm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E4C3-A452-4BDA-A378-9405D4C73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further plan of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fetal growth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nsider increasing insulin dose following more frequent SMBG monitoring if presence of polyhydramnios and large for gestational age (LG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Patient should be managed by obstetricians in the clin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repeat retinal assess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repeat HBA1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2" name="Rounded Rectangle 3"/>
          <p:cNvSpPr/>
          <p:nvPr/>
        </p:nvSpPr>
        <p:spPr>
          <a:xfrm>
            <a:off x="165240" y="1851120"/>
            <a:ext cx="11449080" cy="2162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8702640" y="11034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5"/>
          <p:cNvSpPr/>
          <p:nvPr/>
        </p:nvSpPr>
        <p:spPr>
          <a:xfrm>
            <a:off x="233280" y="4519440"/>
            <a:ext cx="11381040" cy="72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454E-74E4-4962-966F-820175CCC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cp:lastPrinted>2018-07-04T01:19:18Z</cp:lastPrinted>
  <dcterms:modified xsi:type="dcterms:W3CDTF">2018-07-19T06:25:43Z</dcterms:modified>
  <cp:revision>162</cp:revision>
  <dc:subject/>
  <dc:title>Case study</dc:title>
</cp:coreProperties>
</file>